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46E4-F76C-4BEC-8521-FA7F587D3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A7C9-B2C6-469D-829B-66D81817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49CC-57F0-4C16-94FF-7C588EDA4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2089-0E29-4BDD-82A9-0C2E5861E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5F34-A229-41CC-9C9E-E47A6B33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09A4-3788-4204-A7B5-5D14E26E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C185-9904-441D-9660-FD30EA1C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E12A-D4D7-45CB-ADA7-67D80747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B9CD-3577-4038-8A1E-A8F883C0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33EE-6C7D-43D8-ACD6-8CB313BA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2932-CEF7-4386-92E4-43C27DE2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431B-7DF1-4680-859E-C2A2E3B1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E0C2-D8D0-48BE-A1CC-E439A17AC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835344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3300"/>
                </a:solidFill>
                <a:latin typeface="Comic Sans MS"/>
              </a:rPr>
              <a:t>Hello, Computer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150912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s of a compu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042920" y="692280"/>
          <a:ext cx="70106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692280"/>
                    <a:ext cx="70106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468360" y="551664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 (compact disk), floppy disk, keyboard, mouse, printer,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96000" cy="5483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03640" y="119700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79640" y="1557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n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08720" y="4869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515772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y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5157720"/>
            <a:ext cx="158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loppy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19280" y="465300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D (compact dis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 bug – an error in the 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 flame – an unfriendly e-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 geek (a haker) – a person who knows everything about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o press – to use force grad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o look up – to search for some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o surf – to “move around”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ww – World Wide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843280" y="333360"/>
            <a:ext cx="374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ew Word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523880" y="1397160"/>
          <a:ext cx="6096240" cy="4659120"/>
        </p:xfrm>
        <a:graphic>
          <a:graphicData uri="http://schemas.openxmlformats.org/drawingml/2006/table">
            <a:tbl>
              <a:tblPr/>
              <a:tblGrid>
                <a:gridCol w="609840"/>
                <a:gridCol w="566640"/>
                <a:gridCol w="652320"/>
                <a:gridCol w="571680"/>
                <a:gridCol w="647640"/>
                <a:gridCol w="609480"/>
                <a:gridCol w="609840"/>
                <a:gridCol w="609480"/>
                <a:gridCol w="609480"/>
                <a:gridCol w="609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6732720" y="148428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32720" y="1557360"/>
            <a:ext cx="21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80000" y="1916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80360" y="2349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56360" y="2852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56360" y="33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2360" y="3933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56360" y="44370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720" y="49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56000" y="54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04000" y="1341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67280" y="134136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o    u    s   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19162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l    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19640" y="242100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a    n    n    e   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68360" y="2924280"/>
            <a:ext cx="41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  p    g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a   d   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92360" y="342900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    e    y    b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a    r   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16360" y="39337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   i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59280" y="4076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55840" y="496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24200" y="4889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19480" y="4529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48000" y="450864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d    e  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5013360"/>
            <a:ext cx="30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24360" y="501336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l    a    m  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124000" y="551664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    o    o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Bill Gates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48800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03640" y="-360"/>
            <a:ext cx="2736720" cy="1143000"/>
          </a:xfrm>
          <a:prstGeom prst="rect">
            <a:avLst/>
          </a:prstGeom>
          <a:solidFill>
            <a:srgbClr val="186bb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500" spc="-1" strike="noStrike">
                <a:solidFill>
                  <a:srgbClr val="ffffff"/>
                </a:solidFill>
                <a:latin typeface="Comic Sans MS"/>
              </a:rPr>
              <a:t>E-mail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274160" cy="58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ssa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= 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 =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nx = th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s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=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=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 = gl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 bet = Yes! (the strong mean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te = nigh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na = do you want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up =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 = beca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chat room dialo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ia: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Hell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ow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re yo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:  Great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hank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lad to see you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ia: M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oo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:  Did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yo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 well in that test on Mon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ia: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Y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: So what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re yo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ing on Friday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ia: Well, I’ll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ing to Jenny’s party.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o you want to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: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Yes! Than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ia: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We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ill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you 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e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club on Satur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: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4:38:52Z</dcterms:created>
  <dc:creator>a1</dc:creator>
  <dc:description/>
  <dc:language>en-US</dc:language>
  <cp:lastModifiedBy>Supervisor</cp:lastModifiedBy>
  <dcterms:modified xsi:type="dcterms:W3CDTF">2007-11-27T17:34:37Z</dcterms:modified>
  <cp:revision>12</cp:revision>
  <dc:subject/>
  <dc:title>Слайд 1</dc:title>
</cp:coreProperties>
</file>